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9A1F-1FE7-4C6E-AE7E-F543409AD3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1B44-F6F7-4174-BEAF-A203D4429CF0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EAC-270B-4E1C-B2D9-07BC6C7F4906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7D4-3D98-4327-8291-11389D44B792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802D-9C56-407C-B298-9A09E9ADED9C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3576-1EB4-4024-AF54-BFBF72B89B71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D5CF-9327-4153-819C-AACB88660E83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DD8E-ED65-4506-8827-B391429B0D50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CEE-6B32-4269-A28B-0EAACC8D644B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AA26-BBFB-4853-9312-E7F34C4448C5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0302-C298-4BDC-8590-7B5749C22092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2B4D-524D-4DA0-A125-7DEF9AC7783D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1C1-E404-467A-AE11-92B45532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860-BA9A-441D-83A2-6A9BB353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27C-B3A6-4FD9-8AC1-DB3C3CDE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702-16FD-45C0-98AD-72F1D8CB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86E0-4EEC-4EB0-AF77-1E22B772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94A4-009E-4D84-ADE5-1DE4B109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9966-878A-418D-B21F-6F108F7E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8EE-DFE5-4839-B57C-F71539B6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ECF1-CA62-4192-A8BB-4712A83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6672-F233-4186-9057-D5988521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E181-6F67-4556-93C7-29A3B70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0C9-F616-448C-B6E6-D9C2536F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0CCC-1DA7-491F-9F20-908542D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584C-4169-43F8-A29D-8E6677F8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118C-5431-44F5-B285-818F1A44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E1C1-13A9-4F25-BDD2-8CE2F94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3B8F-08EB-4C6A-B310-79EEB723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A8C-D963-46A7-90BD-07C480F8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D96-05C1-41F3-98EE-6C493D3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F24-90F3-42E7-94B3-5B1D907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E70-2323-4532-BC19-2D3D9D7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9EC-ECBA-417E-9129-BC1D316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80A-23D0-4426-BEC6-655BD3D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053-B376-4924-A23E-D2BF54E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539-E361-49AF-98D3-25E3DA78928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E6C2-F13A-4194-9B0B-BF0D0F8ED59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2209680" y="2133720"/>
            <a:ext cx="493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99"/>
                </a:solidFill>
                <a:latin typeface="Times New Roman"/>
              </a:rPr>
              <a:t>Simplifying </a:t>
            </a:r>
            <a:endParaRPr b="0" lang="en-US" sz="72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99"/>
                </a:solidFill>
                <a:latin typeface="Times New Roman"/>
              </a:rPr>
              <a:t>Rational </a:t>
            </a:r>
            <a:endParaRPr b="0" lang="en-US" sz="72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99"/>
                </a:solidFill>
                <a:latin typeface="Times New Roman"/>
              </a:rPr>
              <a:t>Expressions</a:t>
            </a:r>
            <a:endParaRPr b="0" lang="en-US" sz="7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2649600" y="550800"/>
          <a:ext cx="354168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550800"/>
                    <a:ext cx="35416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3"/>
          <p:cNvSpPr/>
          <p:nvPr/>
        </p:nvSpPr>
        <p:spPr>
          <a:xfrm>
            <a:off x="762120" y="20574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2384280" y="3276720"/>
          <a:ext cx="334008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4280" y="3276720"/>
                    <a:ext cx="3340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990720" y="45720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imes New Roman"/>
              </a:rPr>
              <a:t>There is no common factor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, but you can reduce. You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NNOT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 cancel the x’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5972040" y="3352680"/>
          <a:ext cx="1687680" cy="11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72040" y="3352680"/>
                    <a:ext cx="16876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ome to try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752480" y="2133720"/>
          <a:ext cx="160020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13372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5638680" y="4038480"/>
          <a:ext cx="160020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03848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1619280" y="4038480"/>
          <a:ext cx="156204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4038480"/>
                    <a:ext cx="15620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5638680" y="2057400"/>
          <a:ext cx="1600200" cy="118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20574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2743200" y="609480"/>
          <a:ext cx="335268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609480"/>
                    <a:ext cx="3352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3"/>
          <p:cNvSpPr/>
          <p:nvPr/>
        </p:nvSpPr>
        <p:spPr>
          <a:xfrm>
            <a:off x="914400" y="22096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2666880" y="3505320"/>
          <a:ext cx="390384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05320"/>
                    <a:ext cx="390384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8"/>
          <p:cNvSpPr/>
          <p:nvPr/>
        </p:nvSpPr>
        <p:spPr>
          <a:xfrm>
            <a:off x="990720" y="510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What is the common factor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80" name="Object 9"/>
          <p:cNvGraphicFramePr/>
          <p:nvPr/>
        </p:nvGraphicFramePr>
        <p:xfrm>
          <a:off x="6705720" y="5105520"/>
          <a:ext cx="121896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105520"/>
                    <a:ext cx="1218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5"/>
          <p:cNvSpPr/>
          <p:nvPr/>
        </p:nvSpPr>
        <p:spPr>
          <a:xfrm>
            <a:off x="53352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Step 2:  Divide the numerator and denominator by the common factor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83" name="Group 16"/>
          <p:cNvGrpSpPr/>
          <p:nvPr/>
        </p:nvGrpSpPr>
        <p:grpSpPr>
          <a:xfrm>
            <a:off x="2133720" y="2133720"/>
            <a:ext cx="4495680" cy="1668240"/>
            <a:chOff x="2133720" y="2133720"/>
            <a:chExt cx="4495680" cy="1668240"/>
          </a:xfrm>
        </p:grpSpPr>
        <p:grpSp>
          <p:nvGrpSpPr>
            <p:cNvPr id="184" name="Group 17"/>
            <p:cNvGrpSpPr/>
            <p:nvPr/>
          </p:nvGrpSpPr>
          <p:grpSpPr>
            <a:xfrm>
              <a:off x="2133720" y="2394360"/>
              <a:ext cx="4495680" cy="890280"/>
              <a:chOff x="2133720" y="2394360"/>
              <a:chExt cx="4495680" cy="890280"/>
            </a:xfrm>
          </p:grpSpPr>
          <p:grpSp>
            <p:nvGrpSpPr>
              <p:cNvPr id="185" name="Group 18"/>
              <p:cNvGrpSpPr/>
              <p:nvPr/>
            </p:nvGrpSpPr>
            <p:grpSpPr>
              <a:xfrm>
                <a:off x="2133720" y="2394360"/>
                <a:ext cx="4495680" cy="890280"/>
                <a:chOff x="2133720" y="2394360"/>
                <a:chExt cx="4495680" cy="890280"/>
              </a:xfrm>
            </p:grpSpPr>
            <p:graphicFrame>
              <p:nvGraphicFramePr>
                <p:cNvPr id="186" name="Object 19"/>
                <p:cNvGraphicFramePr/>
                <p:nvPr/>
              </p:nvGraphicFramePr>
              <p:xfrm>
                <a:off x="2133720" y="2394360"/>
                <a:ext cx="2515680" cy="89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7" name="Object 19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133720" y="2394360"/>
                          <a:ext cx="2515680" cy="89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88" name="Object 20"/>
                <p:cNvGraphicFramePr/>
                <p:nvPr/>
              </p:nvGraphicFramePr>
              <p:xfrm>
                <a:off x="4412880" y="2394360"/>
                <a:ext cx="2216520" cy="8902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89" name="Object 20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412880" y="2394360"/>
                          <a:ext cx="2216520" cy="89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90" name="Line 21"/>
              <p:cNvSpPr/>
              <p:nvPr/>
            </p:nvSpPr>
            <p:spPr>
              <a:xfrm flipH="1">
                <a:off x="5333040" y="2437560"/>
                <a:ext cx="832680" cy="3042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  <p:sp>
            <p:nvSpPr>
              <p:cNvPr id="191" name="Line 22"/>
              <p:cNvSpPr/>
              <p:nvPr/>
            </p:nvSpPr>
            <p:spPr>
              <a:xfrm flipH="1">
                <a:off x="5727600" y="2872440"/>
                <a:ext cx="788760" cy="3042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</p:grpSp>
        <p:sp>
          <p:nvSpPr>
            <p:cNvPr id="192" name="Text Box 23"/>
            <p:cNvSpPr/>
            <p:nvPr/>
          </p:nvSpPr>
          <p:spPr>
            <a:xfrm>
              <a:off x="5640480" y="2133720"/>
              <a:ext cx="26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035040" y="3220560"/>
              <a:ext cx="17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sp>
        <p:nvSpPr>
          <p:cNvPr id="194" name="Text Box 25"/>
          <p:cNvSpPr/>
          <p:nvPr/>
        </p:nvSpPr>
        <p:spPr>
          <a:xfrm>
            <a:off x="936720" y="367992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Step 3: Multiply to get your answer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95" name="Object 26"/>
          <p:cNvGraphicFramePr/>
          <p:nvPr/>
        </p:nvGraphicFramePr>
        <p:xfrm>
          <a:off x="2971800" y="4343400"/>
          <a:ext cx="305424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343400"/>
                    <a:ext cx="30542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838080" y="22096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Looking at the answer from the previous example, what value of </a:t>
            </a:r>
            <a:r>
              <a:rPr b="0" i="1" lang="en-US" sz="3600" spc="-1" strike="noStrike">
                <a:solidFill>
                  <a:srgbClr val="336699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 would make the denominator 0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67080" y="3429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Times New Roman"/>
              </a:rPr>
              <a:t>x= -1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38080" y="44956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The expression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defined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 when the values make the denominator equal to 0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20400" y="914400"/>
            <a:ext cx="73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Don’t forget about the denominator!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838080" y="2133720"/>
          <a:ext cx="744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4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3"/>
          <p:cNvSpPr/>
          <p:nvPr/>
        </p:nvSpPr>
        <p:spPr>
          <a:xfrm>
            <a:off x="2209680" y="220968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How do I find the values that make an expression undefined?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914400" y="4419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Completely factor the original denominator to find the 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estrictions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818800" y="762120"/>
            <a:ext cx="285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Restrictions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3"/>
          <p:cNvGraphicFramePr/>
          <p:nvPr/>
        </p:nvGraphicFramePr>
        <p:xfrm>
          <a:off x="2403360" y="628560"/>
          <a:ext cx="403236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3360" y="628560"/>
                    <a:ext cx="403236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1598760" y="2773440"/>
          <a:ext cx="602136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8760" y="2773440"/>
                    <a:ext cx="6021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5"/>
          <p:cNvSpPr/>
          <p:nvPr/>
        </p:nvSpPr>
        <p:spPr>
          <a:xfrm>
            <a:off x="1143000" y="3962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The expression is 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</a:rPr>
              <a:t>undefined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 when: a=  2 and -2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22096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Factor the denominator</a:t>
            </a: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60948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3200400" y="609480"/>
          <a:ext cx="175248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609480"/>
                    <a:ext cx="1752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787320" y="2077920"/>
          <a:ext cx="4675320" cy="13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2077920"/>
                    <a:ext cx="467532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5"/>
          <p:cNvSpPr/>
          <p:nvPr/>
        </p:nvSpPr>
        <p:spPr>
          <a:xfrm>
            <a:off x="5257800" y="6858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99"/>
                </a:solidFill>
                <a:latin typeface="Times New Roman"/>
              </a:rPr>
              <a:t>Factor out the GCF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18" name="Object 7"/>
          <p:cNvGraphicFramePr/>
          <p:nvPr/>
        </p:nvGraphicFramePr>
        <p:xfrm>
          <a:off x="5638680" y="2133720"/>
          <a:ext cx="2089440" cy="22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133720"/>
                    <a:ext cx="2089440" cy="22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8"/>
          <p:cNvGraphicFramePr/>
          <p:nvPr/>
        </p:nvGraphicFramePr>
        <p:xfrm>
          <a:off x="1143000" y="3505320"/>
          <a:ext cx="2971800" cy="43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505320"/>
                    <a:ext cx="2971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0"/>
          <p:cNvGraphicFramePr/>
          <p:nvPr/>
        </p:nvGraphicFramePr>
        <p:xfrm>
          <a:off x="4724280" y="3352680"/>
          <a:ext cx="2057400" cy="105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352680"/>
                    <a:ext cx="20574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11"/>
          <p:cNvSpPr/>
          <p:nvPr/>
        </p:nvSpPr>
        <p:spPr>
          <a:xfrm flipV="1">
            <a:off x="2438280" y="4495320"/>
            <a:ext cx="914400" cy="381240"/>
          </a:xfrm>
          <a:prstGeom prst="line">
            <a:avLst/>
          </a:prstGeom>
          <a:ln w="381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 flipV="1">
            <a:off x="2133720" y="5029200"/>
            <a:ext cx="914400" cy="380880"/>
          </a:xfrm>
          <a:prstGeom prst="line">
            <a:avLst/>
          </a:prstGeom>
          <a:ln w="381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5909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c8d1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59092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c8d1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28" name="Object 16"/>
          <p:cNvGraphicFramePr/>
          <p:nvPr/>
        </p:nvGraphicFramePr>
        <p:xfrm>
          <a:off x="1295280" y="4343400"/>
          <a:ext cx="2362320" cy="10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4343400"/>
                    <a:ext cx="23623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7"/>
          <p:cNvGraphicFramePr/>
          <p:nvPr/>
        </p:nvGraphicFramePr>
        <p:xfrm>
          <a:off x="3886200" y="4419720"/>
          <a:ext cx="118908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4419720"/>
                    <a:ext cx="118908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9"/>
          <p:cNvGraphicFramePr/>
          <p:nvPr/>
        </p:nvGraphicFramePr>
        <p:xfrm>
          <a:off x="5334120" y="4419720"/>
          <a:ext cx="89208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4120" y="4419720"/>
                    <a:ext cx="892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Line 20"/>
          <p:cNvSpPr/>
          <p:nvPr/>
        </p:nvSpPr>
        <p:spPr>
          <a:xfrm flipV="1">
            <a:off x="4267080" y="4343040"/>
            <a:ext cx="533520" cy="609480"/>
          </a:xfrm>
          <a:prstGeom prst="line">
            <a:avLst/>
          </a:prstGeom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5" name="Line 21"/>
          <p:cNvSpPr/>
          <p:nvPr/>
        </p:nvSpPr>
        <p:spPr>
          <a:xfrm flipV="1">
            <a:off x="4114800" y="5028840"/>
            <a:ext cx="533520" cy="609480"/>
          </a:xfrm>
          <a:prstGeom prst="line">
            <a:avLst/>
          </a:prstGeom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36" name="Object 22"/>
          <p:cNvGraphicFramePr/>
          <p:nvPr/>
        </p:nvGraphicFramePr>
        <p:xfrm>
          <a:off x="4419720" y="5334120"/>
          <a:ext cx="195120" cy="361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5334120"/>
                    <a:ext cx="1951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3"/>
          <p:cNvGraphicFramePr/>
          <p:nvPr/>
        </p:nvGraphicFramePr>
        <p:xfrm>
          <a:off x="4191120" y="4191120"/>
          <a:ext cx="34740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9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4191120"/>
                    <a:ext cx="347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2"/>
          <p:cNvGraphicFramePr/>
          <p:nvPr/>
        </p:nvGraphicFramePr>
        <p:xfrm>
          <a:off x="762120" y="990720"/>
          <a:ext cx="7772400" cy="54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7724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4"/>
          <p:cNvGraphicFramePr/>
          <p:nvPr/>
        </p:nvGraphicFramePr>
        <p:xfrm>
          <a:off x="1905120" y="2286000"/>
          <a:ext cx="518148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286000"/>
                    <a:ext cx="51814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"/>
          <p:cNvGraphicFramePr/>
          <p:nvPr/>
        </p:nvGraphicFramePr>
        <p:xfrm>
          <a:off x="1219320" y="3276720"/>
          <a:ext cx="661644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164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2057400" y="4267080"/>
          <a:ext cx="41972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267080"/>
                    <a:ext cx="41972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685800" y="7621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Some to try.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762120" y="2133720"/>
          <a:ext cx="3124080" cy="22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12408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4"/>
          <p:cNvSpPr/>
          <p:nvPr/>
        </p:nvSpPr>
        <p:spPr>
          <a:xfrm>
            <a:off x="838080" y="4724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Also find the values that make each expression undefined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990720" y="762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What is a rational expression?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213372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A rational number can be expressed as a quotient of two integers (a </a:t>
            </a:r>
            <a:r>
              <a:rPr b="0" lang="en-US" sz="4400" spc="-1" strike="noStrike" u="sng">
                <a:solidFill>
                  <a:srgbClr val="336699"/>
                </a:solidFill>
                <a:uFillTx/>
                <a:latin typeface="Times New Roman"/>
              </a:rPr>
              <a:t>fraction</a:t>
            </a: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).  A rational expression can be expressed as a quotient of two polynomials.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447920" y="4267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Remember, in a fraction the denominator cannot = 0.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447920" y="2362320"/>
          <a:ext cx="66038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603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0"/>
          <p:cNvSpPr/>
          <p:nvPr/>
        </p:nvSpPr>
        <p:spPr>
          <a:xfrm>
            <a:off x="740880" y="746280"/>
            <a:ext cx="77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Examples of rational expressions: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05000" y="70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implify: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1: Can you reduce the number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24 and 36 can both be reduced by 12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2: Can you cancel any of the letters?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you can cancel one a on top and bottom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715000" y="609480"/>
          <a:ext cx="93816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609480"/>
                    <a:ext cx="938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3962520" y="2743200"/>
          <a:ext cx="74268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743200"/>
                    <a:ext cx="742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3962520" y="4572000"/>
          <a:ext cx="7426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4572000"/>
                    <a:ext cx="742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05000" y="70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implify: 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1: Can you reduce the numbers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-15 and 35 can both be reduced by 5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2: Can you cancel any of the letters?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you can cancel 2 a’s and 2 b’s.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5505480" y="609480"/>
          <a:ext cx="135900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5480" y="609480"/>
                    <a:ext cx="1359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8"/>
          <p:cNvGraphicFramePr/>
          <p:nvPr/>
        </p:nvGraphicFramePr>
        <p:xfrm>
          <a:off x="3768840" y="2743200"/>
          <a:ext cx="11300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68840" y="2743200"/>
                    <a:ext cx="1130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3865680" y="4572000"/>
          <a:ext cx="93636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65680" y="4572000"/>
                    <a:ext cx="9363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ome to try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600200" y="2057400"/>
          <a:ext cx="9907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057400"/>
                    <a:ext cx="9907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"/>
          <p:cNvGraphicFramePr/>
          <p:nvPr/>
        </p:nvGraphicFramePr>
        <p:xfrm>
          <a:off x="1601640" y="3708360"/>
          <a:ext cx="835200" cy="8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1640" y="3708360"/>
                    <a:ext cx="8352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4821120" y="3630600"/>
          <a:ext cx="117972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3630600"/>
                    <a:ext cx="1179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"/>
          <p:cNvGraphicFramePr/>
          <p:nvPr/>
        </p:nvGraphicFramePr>
        <p:xfrm>
          <a:off x="4618080" y="2031840"/>
          <a:ext cx="1355760" cy="8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080" y="2031840"/>
                    <a:ext cx="13557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2668680" y="550800"/>
          <a:ext cx="350352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550800"/>
                    <a:ext cx="3503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3"/>
          <p:cNvSpPr/>
          <p:nvPr/>
        </p:nvSpPr>
        <p:spPr>
          <a:xfrm>
            <a:off x="914400" y="22096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965320" y="3505320"/>
          <a:ext cx="330516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5320" y="3505320"/>
                    <a:ext cx="33051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990720" y="510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What is the common factor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6632640" y="5105520"/>
          <a:ext cx="13651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2640" y="5105520"/>
                    <a:ext cx="13651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7"/>
          <p:cNvGraphicFramePr/>
          <p:nvPr/>
        </p:nvGraphicFramePr>
        <p:xfrm>
          <a:off x="6324480" y="3505320"/>
          <a:ext cx="773280" cy="10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3505320"/>
                    <a:ext cx="7732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2668680" y="550800"/>
          <a:ext cx="350352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550800"/>
                    <a:ext cx="3503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3"/>
          <p:cNvSpPr/>
          <p:nvPr/>
        </p:nvSpPr>
        <p:spPr>
          <a:xfrm>
            <a:off x="914400" y="22096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982960" y="3505320"/>
          <a:ext cx="327024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2960" y="3505320"/>
                    <a:ext cx="327024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5"/>
          <p:cNvSpPr/>
          <p:nvPr/>
        </p:nvSpPr>
        <p:spPr>
          <a:xfrm>
            <a:off x="990720" y="510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What is the common factor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6656400" y="5105520"/>
          <a:ext cx="131616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6400" y="5105520"/>
                    <a:ext cx="13161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6324480" y="3505320"/>
          <a:ext cx="1476360" cy="10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3505320"/>
                    <a:ext cx="14763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2556000" y="550800"/>
          <a:ext cx="373068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50800"/>
                    <a:ext cx="37306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3"/>
          <p:cNvSpPr/>
          <p:nvPr/>
        </p:nvSpPr>
        <p:spPr>
          <a:xfrm>
            <a:off x="762120" y="20574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209680" y="3276720"/>
          <a:ext cx="369108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276720"/>
                    <a:ext cx="369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5"/>
          <p:cNvSpPr/>
          <p:nvPr/>
        </p:nvSpPr>
        <p:spPr>
          <a:xfrm>
            <a:off x="990720" y="45720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imes New Roman"/>
              </a:rPr>
              <a:t>There is no common factor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, but you can reduce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5867280" y="3352680"/>
          <a:ext cx="1897200" cy="11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3352680"/>
                    <a:ext cx="1897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8:30:45Z</dcterms:created>
  <dc:creator>HCPS</dc:creator>
  <dc:description/>
  <dc:language>en-US</dc:language>
  <cp:lastModifiedBy>test</cp:lastModifiedBy>
  <cp:lastPrinted>2009-01-21T14:14:06Z</cp:lastPrinted>
  <dcterms:modified xsi:type="dcterms:W3CDTF">2015-05-08T11:59:53Z</dcterms:modified>
  <cp:revision>63</cp:revision>
  <dc:subject/>
  <dc:title>No Slide Title</dc:title>
</cp:coreProperties>
</file>